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C62C-9601-4D73-81DD-863A565A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A3B-4E3A-4A68-98F1-921E1849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BA1-8411-446B-9DF0-3FEDA59A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270F-CF8E-459C-8221-14F4F729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246D-0BE4-4AB0-89CC-08B4585E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BCC-6CEF-4E70-8F6C-A553A67F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694-6AE6-4335-8148-C28D0F51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0F5C-0A91-45A3-8516-275C02FA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C98-3132-4224-97F8-ECFF02C3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E6E-4926-4A9E-BCB3-1B2ACF0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9B03-B296-4BA0-84DE-9FA2E9B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4DC-42B3-48A7-BC2E-F46CFB28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0EA4-9530-4337-B42C-1C55A1AD6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Homework!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personal st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support or oppose the death penal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short response to the above question in 300 words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this before you watch the fil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ring the vie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watch the film, keep the following questions at the back of your m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Matthew Poncelet deserve to di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film changed your view about capital punish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readed Essa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second writing assignment for this term is a 500-800 word essay on the question of whether the death penalty should be abolished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have to use the film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ad Man Walk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s a reference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of course be required to supplement every argument with facts, statistics, close analysis of the film, case studie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uch Dreaded D-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for submission is Wed, wk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essay must be written in the 5-paragraph format and be double-spa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you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rst draf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peer review on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5:06:29Z</dcterms:created>
  <dc:creator>lina</dc:creator>
  <dc:description/>
  <dc:language>en-US</dc:language>
  <cp:lastModifiedBy>lina</cp:lastModifiedBy>
  <dcterms:modified xsi:type="dcterms:W3CDTF">2009-02-24T06:20:44Z</dcterms:modified>
  <cp:revision>3</cp:revision>
  <dc:subject/>
  <dc:title>Homework!</dc:title>
</cp:coreProperties>
</file>